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2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7.png" ContentType="image/png"/>
  <Override PartName="/ppt/media/image18.pct" ContentType="image/x-pict"/>
  <Override PartName="/ppt/media/image4.pct" ContentType="image/x-pict"/>
  <Override PartName="/ppt/media/image11.png" ContentType="image/png"/>
  <Override PartName="/ppt/media/image3.pct" ContentType="image/x-pict"/>
  <Override PartName="/ppt/media/image27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C01F-6D97-4AF5-9088-FFF6314F5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molecular, protein ontology not yet in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preceded O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B-cell differen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till have redundancy, but it can be detected automatically, changes can be propag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 and then augment file with cross-product inf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 in CL and GO are integ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147-A295-4231-BF8E-E55C6681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020-05A6-435F-A3F1-B5CAC62B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0BE-4067-4DE2-920E-D811E586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1C7-333C-45F6-B6FC-DAFAA1E5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C6DB-A67B-41D6-95C7-FADD98E1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547-7B42-4ED4-B0B7-76094C3B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C62-2FA0-444C-932E-24B338F4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0B3-3B73-4072-90D6-4050459E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F34D-5227-466C-BA89-A4887521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22D1-9D6F-442B-981D-65599CB7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CF5-6151-4E47-8FE4-0FFE7749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2AF-079E-45F0-8F7A-E437F82C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071D-6585-4E17-957F-32870CA3F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ct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png"/><Relationship Id="rId16" Type="http://schemas.openxmlformats.org/officeDocument/2006/relationships/image" Target="../media/image18.pct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840" y="893880"/>
            <a:ext cx="89978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19080"/>
            <a:ext cx="561492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yste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iosynthesis (ChEB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obla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usion (Cell Type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ydrogen 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ansporter activity (ChEB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noR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tabolism (Sequence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ng dis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ttern formation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rosophi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tom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pidermal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ifferentiation (Cell Type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ulatio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low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velopment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la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atom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leukin-1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ceptor complex (not yet in OB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-cell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iation (Cell Type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1360" y="412920"/>
            <a:ext cx="69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kia"/>
              </a:rPr>
              <a:t>Implicit ontologies </a:t>
            </a:r>
            <a:r>
              <a:rPr b="1" i="1" lang="en-US" sz="3200" spc="-1" strike="noStrike">
                <a:solidFill>
                  <a:srgbClr val="000000"/>
                </a:solidFill>
                <a:latin typeface="Skia"/>
              </a:rPr>
              <a:t>within</a:t>
            </a:r>
            <a:r>
              <a:rPr b="1" lang="en-US" sz="3200" spc="-1" strike="noStrike">
                <a:solidFill>
                  <a:srgbClr val="000000"/>
                </a:solidFill>
                <a:latin typeface="Skia"/>
              </a:rPr>
              <a:t> the G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84240" y="-31680"/>
            <a:ext cx="717552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40780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3880" y="5992920"/>
            <a:ext cx="2895840" cy="825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-cell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325680"/>
            <a:ext cx="2057400" cy="1191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ymph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14920" y="3737160"/>
            <a:ext cx="184500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ymph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6840" y="4956480"/>
            <a:ext cx="95328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-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0"/>
            <a:endCxn id="106" idx="2"/>
          </p:cNvCxnSpPr>
          <p:nvPr/>
        </p:nvCxnSpPr>
        <p:spPr>
          <a:xfrm flipV="1">
            <a:off x="7413120" y="4200120"/>
            <a:ext cx="24840" cy="7531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4" idx="0"/>
            <a:endCxn id="105" idx="2"/>
          </p:cNvCxnSpPr>
          <p:nvPr/>
        </p:nvCxnSpPr>
        <p:spPr>
          <a:xfrm flipH="1" flipV="1">
            <a:off x="2095200" y="4336560"/>
            <a:ext cx="876960" cy="18360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1980000" y="1760400"/>
            <a:ext cx="7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kia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52120" y="1743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kia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V="1">
            <a:off x="304560" y="5485680"/>
            <a:ext cx="1080" cy="11041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07080" y="5867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472120"/>
            <a:ext cx="42674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5" idx="0"/>
            <a:endCxn id="114" idx="2"/>
          </p:cNvCxnSpPr>
          <p:nvPr/>
        </p:nvCxnSpPr>
        <p:spPr>
          <a:xfrm flipV="1">
            <a:off x="2095560" y="2934720"/>
            <a:ext cx="419760" cy="5706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885000" y="2289240"/>
            <a:ext cx="100368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6" idx="0"/>
            <a:endCxn id="116" idx="2"/>
          </p:cNvCxnSpPr>
          <p:nvPr/>
        </p:nvCxnSpPr>
        <p:spPr>
          <a:xfrm flipH="1" flipV="1">
            <a:off x="7386120" y="3117240"/>
            <a:ext cx="51840" cy="6166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657600" y="4270320"/>
            <a:ext cx="1676520" cy="825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-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4" idx="0"/>
            <a:endCxn id="118" idx="2"/>
          </p:cNvCxnSpPr>
          <p:nvPr/>
        </p:nvCxnSpPr>
        <p:spPr>
          <a:xfrm flipV="1">
            <a:off x="2971440" y="5098680"/>
            <a:ext cx="1524600" cy="1073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0" name=""/>
          <p:cNvCxnSpPr/>
          <p:nvPr/>
        </p:nvCxnSpPr>
        <p:spPr>
          <a:xfrm>
            <a:off x="3123720" y="3921120"/>
            <a:ext cx="3429720" cy="4680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121" name=""/>
          <p:cNvCxnSpPr>
            <a:stCxn id="118" idx="3"/>
            <a:endCxn id="107" idx="1"/>
          </p:cNvCxnSpPr>
          <p:nvPr/>
        </p:nvCxnSpPr>
        <p:spPr>
          <a:xfrm>
            <a:off x="5333760" y="4683240"/>
            <a:ext cx="1641960" cy="50400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122" name=""/>
          <p:cNvCxnSpPr>
            <a:stCxn id="104" idx="3"/>
            <a:endCxn id="107" idx="2"/>
          </p:cNvCxnSpPr>
          <p:nvPr/>
        </p:nvCxnSpPr>
        <p:spPr>
          <a:xfrm flipV="1">
            <a:off x="4419720" y="5419440"/>
            <a:ext cx="2994480" cy="98640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2465280" y="685800"/>
            <a:ext cx="42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kia"/>
              </a:rPr>
              <a:t>Integrating ont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990720"/>
            <a:ext cx="7086600" cy="2209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[ Term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: GO:00301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: B-cell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_a: GO:0042113   ! B-cell 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_a: GO:0030098   ! lymphocyte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ection_of: is_a GO:0030154    ! cell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ection_of: has_participant CL:0000236 ! B-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3657600"/>
            <a:ext cx="7086600" cy="2209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[ Term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: CL:00002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: B-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_a: CL:0000542                      ! lymphoc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s_from: CL:0000231    ! B-lymphobl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109440" y="1344600"/>
            <a:ext cx="1587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ug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37800" y="3859200"/>
            <a:ext cx="1101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560" y="1295280"/>
            <a:ext cx="885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The next challenge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A syntax and semantics for the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of phenotyp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8560" y="4770360"/>
            <a:ext cx="12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kia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4680" y="1219320"/>
            <a:ext cx="12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kia"/>
              </a:rPr>
              <a:t>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90680" y="2728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6320" y="2254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escrib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2895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3120" y="29718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kia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6" idx="2"/>
            <a:endCxn id="129" idx="0"/>
          </p:cNvCxnSpPr>
          <p:nvPr/>
        </p:nvCxnSpPr>
        <p:spPr>
          <a:xfrm flipH="1">
            <a:off x="4560120" y="4267080"/>
            <a:ext cx="2520" cy="504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2" idx="2"/>
            <a:endCxn id="134" idx="0"/>
          </p:cNvCxnSpPr>
          <p:nvPr/>
        </p:nvCxnSpPr>
        <p:spPr>
          <a:xfrm flipH="1">
            <a:off x="4558680" y="2620440"/>
            <a:ext cx="5400" cy="351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4265640" y="3900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4" idx="2"/>
            <a:endCxn id="136" idx="0"/>
          </p:cNvCxnSpPr>
          <p:nvPr/>
        </p:nvCxnSpPr>
        <p:spPr>
          <a:xfrm>
            <a:off x="4559040" y="3551400"/>
            <a:ext cx="3960" cy="34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4479840" y="1644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/>
          <p:nvPr/>
        </p:nvCxnSpPr>
        <p:spPr>
          <a:xfrm>
            <a:off x="4495320" y="1676520"/>
            <a:ext cx="1080" cy="351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1" name=""/>
          <p:cNvCxnSpPr/>
          <p:nvPr/>
        </p:nvCxnSpPr>
        <p:spPr>
          <a:xfrm>
            <a:off x="4495320" y="1980720"/>
            <a:ext cx="1080" cy="351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84280" y="495360"/>
            <a:ext cx="79754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2680" y="1981080"/>
            <a:ext cx="834948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lele: cora[5]; Fbal:00893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ference: Fbrf:0105869; PUBMED:98435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dorsal closure; Attribute: completion; Value: in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cuticle; Attribute: relative_thickness; Value: th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cuticle; Attribute: structure; Value: necro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trachea; Attribute: inflation; Value: ab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septate junction; Attribute: structure; Value: ab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salivary gland; Attribute: permeability; Value: imperme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epithelium; Attribute: permeability; Value: imperme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24120" y="914400"/>
            <a:ext cx="38289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79440" y="1355760"/>
            <a:ext cx="961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60" y="1295280"/>
            <a:ext cx="9690480" cy="43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: SHH; OMIM:600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ndrome: holoprosencephaly 3; OMIM:1429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sease: Holoprosencephaly ; DOID:00002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ference: OMIM:1429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ference: www.ninds.nih.gov/disorders/holoprosencephaly/holoprosencephaly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prosencephalon development ; Attribute: process; Value: arr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brain ; Attribute: relative_size ; Value: 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brain ventricle ; Attribute: number ; Value: si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skull ; Attribute: morphology ; Value: ab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midface ; Attribute: structure ; Value: hypopla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eye ; Attribute: morphology ; Value: ab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eye ; Attribute: number ; Value: si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eye ; Attribute: placement ; Value: misloc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nose ; Attribute: morphology ; Value: ab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nostril ; Attribute: number ; Value: si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upper lip ; Attribute: morphology ; Value: c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kidney ; Attribute: relative_size ; Value: hypertroph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58520" y="2133720"/>
            <a:ext cx="7233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of phenotype and associated onto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ofit FlyBase phenotype curation with 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ion of OMIM diseases with 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on genes with clear fly/human homolo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-2438280" y="457200"/>
            <a:ext cx="13716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377000" y="2898720"/>
            <a:ext cx="6389640" cy="1062000"/>
            <a:chOff x="1377000" y="2898720"/>
            <a:chExt cx="6389640" cy="1062000"/>
          </a:xfrm>
        </p:grpSpPr>
        <p:sp>
          <p:nvSpPr>
            <p:cNvPr id="55" name=""/>
            <p:cNvSpPr/>
            <p:nvPr/>
          </p:nvSpPr>
          <p:spPr>
            <a:xfrm>
              <a:off x="2586240" y="3501000"/>
              <a:ext cx="397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Times New Roman"/>
                </a:rPr>
                <a:t>http://www.geneontology.or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77000" y="2898720"/>
              <a:ext cx="638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99"/>
                  </a:solidFill>
                  <a:latin typeface="Apple Chancery"/>
                </a:rPr>
                <a:t>Gene Ontology Consortiu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27120" y="689040"/>
            <a:ext cx="1581480" cy="53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695920" y="635040"/>
            <a:ext cx="1325520" cy="787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600360" y="1828800"/>
            <a:ext cx="1941480" cy="3524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721560" y="2008080"/>
            <a:ext cx="1965240" cy="1168560"/>
            <a:chOff x="6721560" y="2008080"/>
            <a:chExt cx="1965240" cy="116856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721560" y="2008080"/>
              <a:ext cx="196524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7427880" y="2465280"/>
              <a:ext cx="1258920" cy="71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1179360" y="6140520"/>
            <a:ext cx="1344600" cy="331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703680" y="5962680"/>
            <a:ext cx="1299960" cy="52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6184800" y="5878440"/>
            <a:ext cx="1779840" cy="42228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380880" y="1914480"/>
            <a:ext cx="2209680" cy="990360"/>
            <a:chOff x="380880" y="1914480"/>
            <a:chExt cx="2209680" cy="990360"/>
          </a:xfrm>
        </p:grpSpPr>
        <p:sp>
          <p:nvSpPr>
            <p:cNvPr id="67" name=""/>
            <p:cNvSpPr/>
            <p:nvPr/>
          </p:nvSpPr>
          <p:spPr>
            <a:xfrm>
              <a:off x="380880" y="1914480"/>
              <a:ext cx="2209680" cy="990360"/>
            </a:xfrm>
            <a:prstGeom prst="rect">
              <a:avLst/>
            </a:prstGeom>
            <a:solidFill>
              <a:srgbClr val="f5f5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9"/>
            <a:stretch/>
          </p:blipFill>
          <p:spPr>
            <a:xfrm>
              <a:off x="456840" y="2143080"/>
              <a:ext cx="1938600" cy="51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4422600" y="369720"/>
            <a:ext cx="858960" cy="628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7435800" y="557280"/>
            <a:ext cx="1295280" cy="89352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412920" y="385920"/>
            <a:ext cx="1600200" cy="1143000"/>
            <a:chOff x="412920" y="385920"/>
            <a:chExt cx="1600200" cy="1143000"/>
          </a:xfrm>
        </p:grpSpPr>
        <p:sp>
          <p:nvSpPr>
            <p:cNvPr id="72" name=""/>
            <p:cNvSpPr/>
            <p:nvPr/>
          </p:nvSpPr>
          <p:spPr>
            <a:xfrm>
              <a:off x="412920" y="385920"/>
              <a:ext cx="1600200" cy="1143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17600" y="466920"/>
              <a:ext cx="1590480" cy="980640"/>
              <a:chOff x="417600" y="466920"/>
              <a:chExt cx="1590480" cy="980640"/>
            </a:xfrm>
          </p:grpSpPr>
          <p:pic>
            <p:nvPicPr>
              <p:cNvPr id="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65000" y="1000080"/>
                <a:ext cx="895320" cy="44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17600" y="466920"/>
                <a:ext cx="1590480" cy="49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6" name=""/>
          <p:cNvGrpSpPr/>
          <p:nvPr/>
        </p:nvGrpSpPr>
        <p:grpSpPr>
          <a:xfrm>
            <a:off x="1878120" y="4419720"/>
            <a:ext cx="5230440" cy="1450080"/>
            <a:chOff x="1878120" y="4419720"/>
            <a:chExt cx="5230440" cy="1450080"/>
          </a:xfrm>
        </p:grpSpPr>
        <p:pic>
          <p:nvPicPr>
            <p:cNvPr id="77" name="" descr=""/>
            <p:cNvPicPr/>
            <p:nvPr/>
          </p:nvPicPr>
          <p:blipFill>
            <a:blip r:embed="rId14"/>
            <a:stretch/>
          </p:blipFill>
          <p:spPr>
            <a:xfrm>
              <a:off x="1878120" y="4419720"/>
              <a:ext cx="4953240" cy="558720"/>
            </a:xfrm>
            <a:prstGeom prst="rect">
              <a:avLst/>
            </a:prstGeom>
            <a:ln w="9360">
              <a:solidFill>
                <a:srgbClr val="00006b"/>
              </a:solidFill>
              <a:miter/>
            </a:ln>
          </p:spPr>
        </p:pic>
        <p:sp>
          <p:nvSpPr>
            <p:cNvPr id="78" name=""/>
            <p:cNvSpPr/>
            <p:nvPr/>
          </p:nvSpPr>
          <p:spPr>
            <a:xfrm>
              <a:off x="1878120" y="4952880"/>
              <a:ext cx="2286000" cy="916920"/>
            </a:xfrm>
            <a:prstGeom prst="rect">
              <a:avLst/>
            </a:prstGeom>
            <a:solidFill>
              <a:srgbClr val="0000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f1d9"/>
                  </a:solidFill>
                  <a:latin typeface="Gill Sans"/>
                </a:rPr>
                <a:t>The Pathogen 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83960" y="4952880"/>
              <a:ext cx="3324600" cy="642600"/>
            </a:xfrm>
            <a:prstGeom prst="rect">
              <a:avLst/>
            </a:prstGeom>
            <a:solidFill>
              <a:srgbClr val="0000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f1d9"/>
                  </a:solidFill>
                  <a:latin typeface="Gill Sans Light"/>
                </a:rPr>
                <a:t>Schizosaccharomyces pom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f1d9"/>
                  </a:solidFill>
                  <a:latin typeface="Gill Sans Light"/>
                </a:rPr>
                <a:t>Genome Sequencing Pro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234200" y="3733920"/>
            <a:ext cx="1523880" cy="1587600"/>
            <a:chOff x="7234200" y="3733920"/>
            <a:chExt cx="1523880" cy="1587600"/>
          </a:xfrm>
        </p:grpSpPr>
        <p:sp>
          <p:nvSpPr>
            <p:cNvPr id="81" name=""/>
            <p:cNvSpPr/>
            <p:nvPr/>
          </p:nvSpPr>
          <p:spPr>
            <a:xfrm>
              <a:off x="7234200" y="4953240"/>
              <a:ext cx="15238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Lucida Calligraphy"/>
                </a:rPr>
                <a:t>Dicty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15"/>
            <a:stretch/>
          </p:blipFill>
          <p:spPr>
            <a:xfrm>
              <a:off x="7234200" y="3733920"/>
              <a:ext cx="1523880" cy="128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" descr=""/>
          <p:cNvPicPr/>
          <p:nvPr/>
        </p:nvPicPr>
        <p:blipFill>
          <a:blip r:embed="rId16"/>
          <a:stretch/>
        </p:blipFill>
        <p:spPr>
          <a:xfrm>
            <a:off x="385920" y="4738680"/>
            <a:ext cx="110484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260280" y="-101520"/>
            <a:ext cx="966456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90720" y="1219320"/>
            <a:ext cx="69390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      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Extending to the GO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O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open biology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Skia"/>
              </a:rPr>
              <a:t>http://obo.sf.ne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kia"/>
              </a:rPr>
              <a:t>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Skia"/>
              </a:rPr>
              <a:t>aka - extended go - (eg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450280" cy="3057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126600" y="9907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o.sf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68664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838080"/>
            <a:ext cx="6568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          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Anatomy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For the representation of phenotypic and expression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Now available for: </a:t>
            </a:r>
            <a:r>
              <a:rPr b="1" i="1" lang="en-GB" sz="3200" spc="-1" strike="noStrike">
                <a:solidFill>
                  <a:srgbClr val="000000"/>
                </a:solidFill>
                <a:latin typeface="Skia"/>
              </a:rPr>
              <a:t>Drosophil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Skia"/>
              </a:rPr>
              <a:t>Mus, C. elegans, Arabidopsis, Ozyra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04840" y="208080"/>
            <a:ext cx="513252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0:17:24Z</dcterms:created>
  <dc:creator>Michael Ashburner</dc:creator>
  <dc:description/>
  <dc:language>en-US</dc:language>
  <cp:lastModifiedBy>Michael Ashburner</cp:lastModifiedBy>
  <dcterms:modified xsi:type="dcterms:W3CDTF">2006-03-03T17:58:30Z</dcterms:modified>
  <cp:revision>6</cp:revision>
  <dc:subject/>
  <dc:title>PowerPoint Presentation</dc:title>
</cp:coreProperties>
</file>